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364-223F-4040-BBA9-51093366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B8B-0B7F-4F7A-BBE3-11AEF351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556-73F7-4E3B-80CB-3A51E48E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CAA-1A21-4896-82C6-053DEDA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D7331-3186-4994-87A7-E3D375C8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EF8E-15F7-44A7-AB6D-ACC3E78C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3028-C06D-4BD5-A3A2-6D3B57C7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860DA-5F4C-4A9E-A473-17B809F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FDA8-8F0F-4A3C-A313-2C15B0A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62524-C529-4C88-B10C-D7E7510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1BAD-7BB1-4C4B-B4E3-6ED7AB9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896-518F-4A35-BFCB-A037738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7AA5-5CF1-4316-A5FE-41DEAC7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E63E1-0741-4A7D-95E1-8FD1226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9B10-9A1A-49D9-B447-2CB5F0A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55D3A-945A-41EB-B7A6-862F8A3A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99609-2D4C-453D-AAF2-A27687F0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326-5CCE-476B-A153-88D99DE5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7A0-28C9-4ACB-AE94-0080370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5EF-BDF0-41F8-AD70-F6A99D48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C0E-06E4-4CAC-970E-11031DB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364-2541-457F-A2FB-A39AEDC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F6F-E31A-422E-A2F7-AC7DCE7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B39-2879-4C88-8156-8C2528C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86A2-1747-4FDB-99C4-822549E9CE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7189-48CF-49AE-A309-375CC19D26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ill There Was No Remed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vid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6, Less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, Pages 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mary of Quar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ory of the Divided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rophets of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See The Prophets Address Problems in Israel (North) and Judah (Sou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get a general feel for the kings of North and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We A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(Before the F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ttering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vided King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dah Al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20120" y="1828800"/>
            <a:ext cx="838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862280"/>
            <a:ext cx="9144000" cy="4995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120" y="9144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520" y="1523880"/>
            <a:ext cx="213372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1523880"/>
            <a:ext cx="2819520" cy="228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914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34120" y="167616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1676520"/>
            <a:ext cx="3581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15400" y="167652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938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14400" y="304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Prophets Fit After The Kingdom Di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ngdom Divid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Kings 12:1-20; 2 Chron.10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(Southern Kingdom)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oboam – 17 Years (ev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(Northern Kingdom) – 10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oboam – 22 Years (ev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0968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nd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0:31:12Z</dcterms:created>
  <dc:creator> Tab Vines</dc:creator>
  <dc:description/>
  <dc:language>en-US</dc:language>
  <cp:lastModifiedBy>Frank D Vines</cp:lastModifiedBy>
  <dcterms:modified xsi:type="dcterms:W3CDTF">2005-07-04T03:38:28Z</dcterms:modified>
  <cp:revision>5</cp:revision>
  <dc:subject/>
  <dc:title>Till There Was No Remedy</dc:title>
</cp:coreProperties>
</file>